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2B1D-A274-424B-9728-1D07D4B43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6485-7394-4C3C-9BBE-04F37CFE5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C926-8CCE-4C29-9EDB-5A525CD462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7485-08E4-436B-97E9-90C91197D9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4A0C-D854-4A21-A397-948455F62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7408-CEBF-4274-A772-156E57171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9FCC-2EBB-4BB0-8730-6403FADD6C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33A6-EFBE-4EC3-8932-7FAB53EB1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65AA-2CC7-434A-82B5-8FAA605BD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A7C2-C21C-43AB-BCBE-92EAF678B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6224-982F-45E9-AE40-874109A18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DC26-835C-46C2-8966-5BF53063AB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369-371D-457F-AEB7-EAFB8482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D69-4709-4F8F-849C-44610E1C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2D6-3050-49A2-AEDF-B7736FAA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14E-2005-4856-8362-F98B639B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696-7207-44AF-925D-229B77D1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E92-F474-4D08-8DD1-8FD8CC0A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9FC-AB02-443B-A49A-F3D4C47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B0F-900C-47F9-9AB9-C8674B35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AEC-FEA8-4424-BA15-60C4702D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0E6-E34D-42A1-BEB4-CCBEEFBC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980-A51B-43A9-BEC1-A39CC66D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7D7-78DA-47B7-9311-6036DFB3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C9C6-BD2B-42F3-B130-78F5AD1A3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185688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2"/>
          <p:cNvSpPr/>
          <p:nvPr/>
        </p:nvSpPr>
        <p:spPr>
          <a:xfrm>
            <a:off x="6656400" y="401148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356000" y="2320920"/>
            <a:ext cx="17964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7899480" y="4786200"/>
            <a:ext cx="0" cy="17964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1241280" y="3057480"/>
            <a:ext cx="0" cy="17928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3579840" y="4786200"/>
            <a:ext cx="0" cy="17964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5595840" y="3057480"/>
            <a:ext cx="0" cy="17928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6656400" y="2320920"/>
            <a:ext cx="1241280" cy="9000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16000" y="1546200"/>
            <a:ext cx="413856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 не есть что-то самосущ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дставляет собой прос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едостаток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517840" y="323856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называемые «недостатки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ствуют высшему благ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ние же о реальност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следств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из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й точки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821120" y="496584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, творимое своб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ше добра, творимог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 необходимости,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ло ж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употреб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4533840" y="1546200"/>
            <a:ext cx="2124000" cy="15480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 де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6837480" y="3238560"/>
            <a:ext cx="2124000" cy="1547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ё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ом мир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чши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216000" y="323856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опус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517840" y="496584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ем же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во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4"/>
          <p:cNvSpPr/>
          <p:nvPr/>
        </p:nvSpPr>
        <p:spPr>
          <a:xfrm flipH="1" rot="16200000">
            <a:off x="1420560" y="4653000"/>
            <a:ext cx="935280" cy="1224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340000" y="404820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641840" y="573876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5" descr="Августин (Гоццоли-16-red)"/>
          <p:cNvPicPr/>
          <p:nvPr/>
        </p:nvPicPr>
        <p:blipFill>
          <a:blip r:embed="rId1"/>
          <a:stretch/>
        </p:blipFill>
        <p:spPr>
          <a:xfrm>
            <a:off x="7269120" y="287280"/>
            <a:ext cx="163368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Leibniz (5-red)"/>
          <p:cNvPicPr/>
          <p:nvPr/>
        </p:nvPicPr>
        <p:blipFill>
          <a:blip r:embed="rId2"/>
          <a:stretch/>
        </p:blipFill>
        <p:spPr>
          <a:xfrm>
            <a:off x="179280" y="5218200"/>
            <a:ext cx="144324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924200" y="284148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6297480" y="280656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полог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085840" y="363384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ти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04/20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085840" y="442584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фир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3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301/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2085840" y="521820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кл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2-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477120" y="359892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ртуллиа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6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после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6477120" y="438948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иг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 253/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6297480" y="554184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2400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23056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ифагор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138560" y="1690560"/>
            <a:ext cx="172728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6477120" y="169056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н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-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8"/>
          <p:cNvCxnSpPr/>
          <p:nvPr/>
        </p:nvCxnSpPr>
        <p:spPr>
          <a:xfrm>
            <a:off x="3094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9"/>
          <p:cNvCxnSpPr/>
          <p:nvPr/>
        </p:nvCxnSpPr>
        <p:spPr>
          <a:xfrm>
            <a:off x="1186920" y="251748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0"/>
          <p:cNvCxnSpPr/>
          <p:nvPr/>
        </p:nvCxnSpPr>
        <p:spPr>
          <a:xfrm>
            <a:off x="5002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1"/>
          <p:cNvSpPr/>
          <p:nvPr/>
        </p:nvSpPr>
        <p:spPr>
          <a:xfrm>
            <a:off x="1187280" y="2662200"/>
            <a:ext cx="190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3094200" y="2662200"/>
            <a:ext cx="19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23"/>
          <p:cNvCxnSpPr/>
          <p:nvPr/>
        </p:nvCxnSpPr>
        <p:spPr>
          <a:xfrm>
            <a:off x="3094200" y="2662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AutoShape 25"/>
          <p:cNvCxnSpPr/>
          <p:nvPr/>
        </p:nvCxnSpPr>
        <p:spPr>
          <a:xfrm>
            <a:off x="7467120" y="518112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" name="Line 27"/>
          <p:cNvSpPr/>
          <p:nvPr/>
        </p:nvSpPr>
        <p:spPr>
          <a:xfrm>
            <a:off x="4264200" y="3238560"/>
            <a:ext cx="10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8"/>
          <p:cNvCxnSpPr/>
          <p:nvPr/>
        </p:nvCxnSpPr>
        <p:spPr>
          <a:xfrm>
            <a:off x="5272200" y="3238200"/>
            <a:ext cx="2160" cy="91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29"/>
          <p:cNvSpPr/>
          <p:nvPr/>
        </p:nvSpPr>
        <p:spPr>
          <a:xfrm>
            <a:off x="5272200" y="5937120"/>
            <a:ext cx="102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0"/>
          <p:cNvCxnSpPr/>
          <p:nvPr/>
        </p:nvCxnSpPr>
        <p:spPr>
          <a:xfrm>
            <a:off x="5272200" y="5019840"/>
            <a:ext cx="2160" cy="91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Line 31"/>
          <p:cNvSpPr/>
          <p:nvPr/>
        </p:nvSpPr>
        <p:spPr>
          <a:xfrm>
            <a:off x="5272200" y="2662200"/>
            <a:ext cx="21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2"/>
          <p:cNvCxnSpPr/>
          <p:nvPr/>
        </p:nvCxnSpPr>
        <p:spPr>
          <a:xfrm>
            <a:off x="7467120" y="2482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33"/>
          <p:cNvCxnSpPr/>
          <p:nvPr/>
        </p:nvCxnSpPr>
        <p:spPr>
          <a:xfrm>
            <a:off x="5272200" y="2661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3" name="Rectangle 26"/>
          <p:cNvSpPr/>
          <p:nvPr/>
        </p:nvSpPr>
        <p:spPr>
          <a:xfrm>
            <a:off x="4371840" y="4192560"/>
            <a:ext cx="180036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Христианск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787480" y="1619280"/>
            <a:ext cx="2340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62856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лат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66748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осток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ре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4065480" y="334656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падокийс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438200" y="201456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5127480" y="2014560"/>
            <a:ext cx="13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/>
          <p:nvPr/>
        </p:nvCxnSpPr>
        <p:spPr>
          <a:xfrm>
            <a:off x="6477120" y="2014560"/>
            <a:ext cx="216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3" name="AutoShape 17"/>
          <p:cNvCxnSpPr/>
          <p:nvPr/>
        </p:nvCxnSpPr>
        <p:spPr>
          <a:xfrm>
            <a:off x="1437840" y="2014560"/>
            <a:ext cx="252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AutoShape 18"/>
          <p:cNvSpPr/>
          <p:nvPr/>
        </p:nvSpPr>
        <p:spPr>
          <a:xfrm>
            <a:off x="4065480" y="4210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силий Вели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065480" y="4929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азианз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4065480" y="564984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исс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5 - ок. 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6548400" y="363384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6548400" y="5937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оанн Дамаск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675 - до 7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65484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севдо-Дионисий </a:t>
            </a:r>
            <a:br>
              <a:rPr sz="16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5"/>
          <p:cNvSpPr/>
          <p:nvPr/>
        </p:nvSpPr>
        <p:spPr>
          <a:xfrm>
            <a:off x="65484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аксим Исповедник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80 – 6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6"/>
          <p:cNvSpPr/>
          <p:nvPr/>
        </p:nvSpPr>
        <p:spPr>
          <a:xfrm>
            <a:off x="2700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релий Август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54 - ок. 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2700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верин Боэц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480 - 5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5235480" y="277020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286760" y="2781360"/>
            <a:ext cx="43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30"/>
          <p:cNvCxnSpPr/>
          <p:nvPr/>
        </p:nvCxnSpPr>
        <p:spPr>
          <a:xfrm>
            <a:off x="5235120" y="2769840"/>
            <a:ext cx="252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1"/>
          <p:cNvCxnSpPr/>
          <p:nvPr/>
        </p:nvCxnSpPr>
        <p:spPr>
          <a:xfrm>
            <a:off x="7718400" y="2769840"/>
            <a:ext cx="2160" cy="864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2"/>
          <p:cNvCxnSpPr/>
          <p:nvPr/>
        </p:nvCxnSpPr>
        <p:spPr>
          <a:xfrm>
            <a:off x="1437840" y="3130200"/>
            <a:ext cx="2520" cy="13676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Oval 6"/>
          <p:cNvSpPr/>
          <p:nvPr/>
        </p:nvSpPr>
        <p:spPr>
          <a:xfrm>
            <a:off x="6548400" y="3706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08680" y="3273480"/>
            <a:ext cx="865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58480" y="3525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4503960" y="586584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6804000" y="5516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6640" y="5516640"/>
            <a:ext cx="14457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еруса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6"/>
          <p:cNvSpPr/>
          <p:nvPr/>
        </p:nvSpPr>
        <p:spPr>
          <a:xfrm>
            <a:off x="18352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851480" y="449748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9"/>
          <p:cNvSpPr/>
          <p:nvPr/>
        </p:nvSpPr>
        <p:spPr>
          <a:xfrm>
            <a:off x="145728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45760" y="384984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п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6908760" y="3670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7094880" y="3489480"/>
            <a:ext cx="1114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с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5541840" y="3184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720320" y="2733840"/>
            <a:ext cx="2197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6"/>
          <p:cNvSpPr/>
          <p:nvPr/>
        </p:nvSpPr>
        <p:spPr>
          <a:xfrm>
            <a:off x="7088040" y="4994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7243560" y="456552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1528920" y="4491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692280" y="4653000"/>
            <a:ext cx="9061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г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1601640" y="2060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1760040" y="1700280"/>
            <a:ext cx="88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85480" y="2158560"/>
            <a:ext cx="4930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770200" y="133020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92000" y="341784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релий Авгус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7800" y="62247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оанн Дамас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Августин (Гоццоли-16-red)"/>
          <p:cNvPicPr/>
          <p:nvPr/>
        </p:nvPicPr>
        <p:blipFill>
          <a:blip r:embed="rId1"/>
          <a:stretch/>
        </p:blipFill>
        <p:spPr>
          <a:xfrm>
            <a:off x="7197840" y="971640"/>
            <a:ext cx="18000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nb_pinacoteca_unknown_greek_xiv_st_john_of_damascus_red4"/>
          <p:cNvPicPr/>
          <p:nvPr/>
        </p:nvPicPr>
        <p:blipFill>
          <a:blip r:embed="rId2"/>
          <a:stretch/>
        </p:blipFill>
        <p:spPr>
          <a:xfrm>
            <a:off x="96840" y="3778200"/>
            <a:ext cx="1666800" cy="23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Рафаэль, Боэций_3"/>
          <p:cNvPicPr/>
          <p:nvPr/>
        </p:nvPicPr>
        <p:blipFill>
          <a:blip r:embed="rId3"/>
          <a:stretch/>
        </p:blipFill>
        <p:spPr>
          <a:xfrm>
            <a:off x="250920" y="1438200"/>
            <a:ext cx="1076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38880" y="334656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ин Боэ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nb_pinacoteca_raphael_st_paul_preaching_in_athens_st_dionysius_the_areopagite_red"/>
          <p:cNvPicPr/>
          <p:nvPr/>
        </p:nvPicPr>
        <p:blipFill>
          <a:blip r:embed="rId4"/>
          <a:stretch/>
        </p:blipFill>
        <p:spPr>
          <a:xfrm>
            <a:off x="6945480" y="3886200"/>
            <a:ext cx="2143080" cy="2228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187400" y="62247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евдо-Диони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50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nb_pinacoteca_vasnetsov_v_orthodox_bishops"/>
          <p:cNvPicPr/>
          <p:nvPr/>
        </p:nvPicPr>
        <p:blipFill>
          <a:blip r:embed="rId1"/>
          <a:stretch/>
        </p:blipFill>
        <p:spPr>
          <a:xfrm>
            <a:off x="5037120" y="1438200"/>
            <a:ext cx="33321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0" name="Picture 6" descr="nb_pinacoteca_gozzoli_fresco_cycle_of_st_augustine_16_cut"/>
          <p:cNvPicPr/>
          <p:nvPr/>
        </p:nvPicPr>
        <p:blipFill>
          <a:blip r:embed="rId2"/>
          <a:stretch/>
        </p:blipFill>
        <p:spPr>
          <a:xfrm>
            <a:off x="898560" y="1438200"/>
            <a:ext cx="28288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872640" y="593712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Гоццол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ние св. Авгу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9400" y="593712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Васнец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ые епи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527148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Василий Велик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599076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Григорий Назиан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6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85840" y="1798560"/>
            <a:ext cx="503892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дице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θεός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,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δίκη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аведливость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«оправдание Бога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обо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их доктри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емящихся соглас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благого и разум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жественного управления ми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личием мирового з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авдать» это упра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лицом тёмных сторон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Leibniz (5-red)"/>
          <p:cNvPicPr/>
          <p:nvPr/>
        </p:nvPicPr>
        <p:blipFill>
          <a:blip r:embed="rId1"/>
          <a:stretch/>
        </p:blipFill>
        <p:spPr>
          <a:xfrm>
            <a:off x="7377120" y="1690560"/>
            <a:ext cx="1658880" cy="169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Эпикур (Рим - Капитолийский музей - red5)"/>
          <p:cNvPicPr/>
          <p:nvPr/>
        </p:nvPicPr>
        <p:blipFill>
          <a:blip r:embed="rId2"/>
          <a:stretch/>
        </p:blipFill>
        <p:spPr>
          <a:xfrm>
            <a:off x="250920" y="1690560"/>
            <a:ext cx="1514520" cy="18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Августин (Гоццоли-16-red)"/>
          <p:cNvPicPr/>
          <p:nvPr/>
        </p:nvPicPr>
        <p:blipFill>
          <a:blip r:embed="rId3"/>
          <a:stretch/>
        </p:blipFill>
        <p:spPr>
          <a:xfrm>
            <a:off x="7269120" y="4216320"/>
            <a:ext cx="1800360" cy="238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Цицерон (Уффици - red)"/>
          <p:cNvPicPr/>
          <p:nvPr/>
        </p:nvPicPr>
        <p:blipFill>
          <a:blip r:embed="rId4"/>
          <a:stretch/>
        </p:blipFill>
        <p:spPr>
          <a:xfrm>
            <a:off x="250920" y="4317840"/>
            <a:ext cx="157140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9"/>
          <p:cNvSpPr/>
          <p:nvPr/>
        </p:nvSpPr>
        <p:spPr>
          <a:xfrm>
            <a:off x="7704360" y="3525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468000" y="367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981440" y="59371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941440" y="5937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1"/>
          <p:cNvSpPr/>
          <p:nvPr/>
        </p:nvSpPr>
        <p:spPr>
          <a:xfrm flipH="1">
            <a:off x="4894200" y="5433840"/>
            <a:ext cx="611280" cy="900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706920" y="5433840"/>
            <a:ext cx="610920" cy="900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6585120" y="4371840"/>
            <a:ext cx="610920" cy="1008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014560" y="4371840"/>
            <a:ext cx="611280" cy="1008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701120" y="3489480"/>
            <a:ext cx="610920" cy="900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98560" y="3489480"/>
            <a:ext cx="611280" cy="900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894200" y="2428920"/>
            <a:ext cx="611280" cy="1008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06920" y="2428920"/>
            <a:ext cx="610920" cy="1008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625840" y="1258920"/>
            <a:ext cx="3959280" cy="8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огущ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в мире с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647640" y="2770200"/>
            <a:ext cx="30592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жела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505480" y="2770200"/>
            <a:ext cx="305892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в сил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51128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590076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мог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3346560" y="2085840"/>
            <a:ext cx="251928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ходит, что 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2625840" y="4713120"/>
            <a:ext cx="395928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как то, так и друг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т понятию Бог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отриц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690560" y="57927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505480" y="57927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з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3" descr="Эпикур (Рим - Капитолийский музей - red5)"/>
          <p:cNvPicPr/>
          <p:nvPr/>
        </p:nvPicPr>
        <p:blipFill>
          <a:blip r:embed="rId1"/>
          <a:stretch/>
        </p:blipFill>
        <p:spPr>
          <a:xfrm>
            <a:off x="358920" y="539640"/>
            <a:ext cx="1504800" cy="187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Цицерон (Уффици - red)"/>
          <p:cNvPicPr/>
          <p:nvPr/>
        </p:nvPicPr>
        <p:blipFill>
          <a:blip r:embed="rId2"/>
          <a:stretch/>
        </p:blipFill>
        <p:spPr>
          <a:xfrm>
            <a:off x="7340760" y="539640"/>
            <a:ext cx="1465200" cy="1873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5:43:35Z</dcterms:created>
  <dc:creator>Николай Бирюков / Nikolai Biryukov</dc:creator>
  <dc:description>Редакция декабря 2008 г.</dc:description>
  <dc:language>en-US</dc:language>
  <cp:lastModifiedBy>LEGION</cp:lastModifiedBy>
  <dcterms:modified xsi:type="dcterms:W3CDTF">2014-11-11T10:17:39Z</dcterms:modified>
  <cp:revision>201</cp:revision>
  <dc:subject>Основы философии - Тема 8</dc:subject>
  <dc:title>Средневековая философия: Патристика</dc:title>
</cp:coreProperties>
</file>